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camera.wav" ContentType="audio/x-wav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587-A292-4351-B89D-171583A4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2D6-9F24-4031-81F8-9D9D51A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E66-9ED9-491F-BF4C-F4A49905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900-D3CE-440E-B67D-8F1A7661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E47-B44B-4F89-A617-0CBD5291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27D-2D54-421B-AF58-2D85EC6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2E9-1D39-401E-BDD8-86600B60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ACF-F296-4E45-8147-2282640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738-B0C4-4487-A784-978BAE4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0F6-83C2-4446-9A73-A07DA07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C4D-C615-4123-BAE4-73227C0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704-B1D6-46EB-93E0-79EFDFC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D34-7ECD-418A-8E51-FA8DB909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spiral notebook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1spiral notebook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spiral notebook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1spiral notebook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FCC-A0F1-445E-8553-A1CE67D3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ces in a Singl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orizonta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fri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 applied opposes the force of gravity, that is, the w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F</a:t>
            </a:r>
            <a:r>
              <a:rPr b="0" lang="en-US" sz="4400" spc="-1" strike="noStrike" baseline="-14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F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8D7C-D2D3-4980-8708-BBD3EA22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hat is an Inclined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lined plane is a simple machine design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amount of force required to do a given quantity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xtending the distance over which the force is ex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nclined plane"/>
          <p:cNvPicPr/>
          <p:nvPr/>
        </p:nvPicPr>
        <p:blipFill>
          <a:blip r:embed="rId1"/>
          <a:stretch/>
        </p:blipFill>
        <p:spPr>
          <a:xfrm>
            <a:off x="2514600" y="3200400"/>
            <a:ext cx="44956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384-5142-4396-A2A6-087963456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components on incline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7F5-8943-4CE1-83A6-9FC551E40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Normal Force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object supported by a surface is the component of the supporting force that is perpendicular to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sitting on a level surface then the normal force is always equal and opposite of the weight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orcess.gif (1105 bytes)"/>
          <p:cNvPicPr/>
          <p:nvPr/>
        </p:nvPicPr>
        <p:blipFill>
          <a:blip r:embed="rId1"/>
          <a:srcRect l="14908" t="6108" r="0" b="4080"/>
          <a:stretch/>
        </p:blipFill>
        <p:spPr>
          <a:xfrm>
            <a:off x="5791320" y="1905120"/>
            <a:ext cx="2766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80F5-53E5-47BA-A254-24BC4389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ime two surfaces are in contact there will be a normal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orce is always perpendicular to the surfaces 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Normal is often synonymous with the word perpendic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CAC-A5CC-410F-A306-F72232D3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riction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Hallow’s 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ghter than air balloon is accelerating upwards at 2m/s/s. Its total mass is 2000 kg. What must be the ne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us: What is the lift 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E16-2D90-4D82-8C9F-43F94BA2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F5E4-D119-422D-9368-4D4DFAA5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orce that opposes the motion of two surfaces in conta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tatic Fric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that opposes the start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liding Fri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from constant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frictional forces always greater than sliding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DD9-CE2A-4239-9DE4-C0E1CD1A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01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he force of friction depends on two thing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ature of the surfaces in contact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efficient of friction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ce pushing the surfaces together…the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rmal fo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8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i="1" lang="en-US" sz="8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8000" spc="-1" strike="noStrike" baseline="-14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5FF8-19FD-41CF-A5F2-0F63AADB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Happening With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el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ilibr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1505-D79C-4F72-9584-8FAA2103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Script MT Bold"/>
              </a:rPr>
              <a:t>(4)Dynam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Forces on an Inclined 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2:07:05Z</dcterms:created>
  <dc:creator>Linda Legare</dc:creator>
  <dc:description/>
  <dc:language>en-US</dc:language>
  <cp:lastModifiedBy>gandella</cp:lastModifiedBy>
  <dcterms:modified xsi:type="dcterms:W3CDTF">2010-11-08T12:54:51Z</dcterms:modified>
  <cp:revision>135</cp:revision>
  <dc:subject/>
  <dc:title>Force</dc:title>
</cp:coreProperties>
</file>